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C961-8CA1-4155-8227-C1B833967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AF36-D0DF-4C3E-9546-E03D612C6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F65C-EE89-417D-971D-E37885208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961E-287B-48FD-99A6-BECC37F8B9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4B38-3E51-42CE-B796-C0C332F4C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1DA9-A67A-4746-8BF5-1F0CE1727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F916-FFEE-4159-851A-8AC09A886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853E-E040-4B18-A663-323A25E59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B000-2B08-4A8E-B820-304C8D5DB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3145-3056-4E54-88E8-BBBCC8DCD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8828-FE24-4703-8900-C1D41E221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DCB4-C6C1-4367-B08A-A48E388B3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34160" y="6477120"/>
            <a:ext cx="533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A12B-D111-4ED9-AA6B-B1D044D1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613872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0"/>
            <a:ext cx="9144000" cy="3581280"/>
            <a:chOff x="0" y="0"/>
            <a:chExt cx="9144000" cy="358128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144000" cy="685800"/>
              <a:chOff x="0" y="0"/>
              <a:chExt cx="9144000" cy="6858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144000" cy="685800"/>
              </a:xfrm>
              <a:prstGeom prst="rect">
                <a:avLst/>
              </a:prstGeom>
              <a:solidFill>
                <a:srgbClr val="00004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20560" y="38160"/>
                <a:ext cx="8610840" cy="580680"/>
              </a:xfrm>
              <a:prstGeom prst="rect">
                <a:avLst/>
              </a:prstGeom>
              <a:solidFill>
                <a:srgbClr val="00004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PROPOSTA UNITARIA ED  ORGANICA PER LA SOLUZIONE DELLE PROBLEMATICHE DEGLI ARSENALI E DEGLI STABILIMENTI A CARATTERE TECNICO INDUSTRIA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609480" cy="3581280"/>
              <a:chOff x="0" y="0"/>
              <a:chExt cx="609480" cy="35812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609480" cy="3581280"/>
              </a:xfrm>
              <a:prstGeom prst="rect">
                <a:avLst/>
              </a:prstGeom>
              <a:solidFill>
                <a:srgbClr val="00004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840" y="2914560"/>
                <a:ext cx="453960" cy="59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480" y="1498680"/>
                <a:ext cx="52524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160" y="2281320"/>
                <a:ext cx="46512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00" y="762120"/>
                <a:ext cx="56844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8000" y="30240"/>
                <a:ext cx="361800" cy="706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" name=""/>
          <p:cNvSpPr/>
          <p:nvPr/>
        </p:nvSpPr>
        <p:spPr>
          <a:xfrm>
            <a:off x="620640" y="685800"/>
            <a:ext cx="8534520" cy="7621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9480" y="1447920"/>
            <a:ext cx="8534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20640" y="1415880"/>
            <a:ext cx="8534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620640" y="1393920"/>
            <a:ext cx="85345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848720" y="6454800"/>
            <a:ext cx="1218960" cy="5806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4016-FE16-4F9B-BA1F-CE2C0776C991}" type="slidenum">
              <a:rPr b="1" lang="it-IT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di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71640" y="2133720"/>
            <a:ext cx="73454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PRESENTAZIONE ALLE OO.S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DELLA RELAZIONE DE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GRUPPO DI LAVOR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NOMINATO D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SIG. MINISTRO DELLA DIFES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0"/>
            <a:ext cx="8534520" cy="1371600"/>
          </a:xfrm>
          <a:prstGeom prst="rect">
            <a:avLst/>
          </a:prstGeom>
          <a:solidFill>
            <a:srgbClr val="0000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POSTA UNITARIA ED ORGANICA PER LA SOLUZIONE 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BLEMATICHE DEGLI ARSENALI E DEGLI STABILI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 CARATTERE TECNICO INDUSTRIALE DELLA DIFES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88AB-E140-48BB-AB25-5B4BC7E64D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1628640"/>
            <a:ext cx="61930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isorse umane Arsenale La Spez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3068640"/>
          <a:ext cx="7423200" cy="936360"/>
        </p:xfrm>
        <a:graphic>
          <a:graphicData uri="http://schemas.openxmlformats.org/drawingml/2006/table">
            <a:tbl>
              <a:tblPr/>
              <a:tblGrid>
                <a:gridCol w="1860840"/>
                <a:gridCol w="1911240"/>
                <a:gridCol w="1770120"/>
                <a:gridCol w="18810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m.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c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3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258920" y="5084640"/>
          <a:ext cx="7416720" cy="954360"/>
        </p:xfrm>
        <a:graphic>
          <a:graphicData uri="http://schemas.openxmlformats.org/drawingml/2006/table">
            <a:tbl>
              <a:tblPr/>
              <a:tblGrid>
                <a:gridCol w="1847880"/>
                <a:gridCol w="1922400"/>
                <a:gridCol w="187956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, B3, B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3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, B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111480" y="4653000"/>
          <a:ext cx="5549760" cy="431640"/>
        </p:xfrm>
        <a:graphic>
          <a:graphicData uri="http://schemas.openxmlformats.org/drawingml/2006/table">
            <a:tbl>
              <a:tblPr/>
              <a:tblGrid>
                <a:gridCol w="1905120"/>
                <a:gridCol w="1892160"/>
                <a:gridCol w="1752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E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IST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048120" y="2492280"/>
          <a:ext cx="5575320" cy="576000"/>
        </p:xfrm>
        <a:graphic>
          <a:graphicData uri="http://schemas.openxmlformats.org/drawingml/2006/table">
            <a:tbl>
              <a:tblPr/>
              <a:tblGrid>
                <a:gridCol w="1913760"/>
                <a:gridCol w="1769400"/>
                <a:gridCol w="18921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E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IST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116000" y="263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cnica liv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B435-4F0D-4297-A41F-42F9DC7F1D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1628640"/>
            <a:ext cx="61930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isorse umane Arsenale Tar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187280" y="3068640"/>
          <a:ext cx="7423200" cy="936360"/>
        </p:xfrm>
        <a:graphic>
          <a:graphicData uri="http://schemas.openxmlformats.org/drawingml/2006/table">
            <a:tbl>
              <a:tblPr/>
              <a:tblGrid>
                <a:gridCol w="1860840"/>
                <a:gridCol w="1911240"/>
                <a:gridCol w="1770120"/>
                <a:gridCol w="18810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m.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c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1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258920" y="5084640"/>
          <a:ext cx="7416720" cy="954360"/>
        </p:xfrm>
        <a:graphic>
          <a:graphicData uri="http://schemas.openxmlformats.org/drawingml/2006/table">
            <a:tbl>
              <a:tblPr/>
              <a:tblGrid>
                <a:gridCol w="1847880"/>
                <a:gridCol w="1922400"/>
                <a:gridCol w="187956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, B3, B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3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, B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111480" y="4653000"/>
          <a:ext cx="5549760" cy="431640"/>
        </p:xfrm>
        <a:graphic>
          <a:graphicData uri="http://schemas.openxmlformats.org/drawingml/2006/table">
            <a:tbl>
              <a:tblPr/>
              <a:tblGrid>
                <a:gridCol w="1905120"/>
                <a:gridCol w="1892160"/>
                <a:gridCol w="1752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E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IST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048120" y="2492280"/>
          <a:ext cx="5575320" cy="576000"/>
        </p:xfrm>
        <a:graphic>
          <a:graphicData uri="http://schemas.openxmlformats.org/drawingml/2006/table">
            <a:tbl>
              <a:tblPr/>
              <a:tblGrid>
                <a:gridCol w="1913760"/>
                <a:gridCol w="1769400"/>
                <a:gridCol w="18921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E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IST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116000" y="263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cnica liv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BA96-35BE-4253-84BD-D62F14C06E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1628640"/>
            <a:ext cx="61930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isorse umane Arsenale Augu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187280" y="3068640"/>
          <a:ext cx="7423200" cy="936360"/>
        </p:xfrm>
        <a:graphic>
          <a:graphicData uri="http://schemas.openxmlformats.org/drawingml/2006/table">
            <a:tbl>
              <a:tblPr/>
              <a:tblGrid>
                <a:gridCol w="1860840"/>
                <a:gridCol w="1911240"/>
                <a:gridCol w="1770120"/>
                <a:gridCol w="18810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mm.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c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258920" y="5084640"/>
          <a:ext cx="7416720" cy="954360"/>
        </p:xfrm>
        <a:graphic>
          <a:graphicData uri="http://schemas.openxmlformats.org/drawingml/2006/table">
            <a:tbl>
              <a:tblPr/>
              <a:tblGrid>
                <a:gridCol w="1847880"/>
                <a:gridCol w="1922400"/>
                <a:gridCol w="187956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, B3, B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, B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111480" y="4653000"/>
          <a:ext cx="5549760" cy="431640"/>
        </p:xfrm>
        <a:graphic>
          <a:graphicData uri="http://schemas.openxmlformats.org/drawingml/2006/table">
            <a:tbl>
              <a:tblPr/>
              <a:tblGrid>
                <a:gridCol w="1905120"/>
                <a:gridCol w="1892160"/>
                <a:gridCol w="1752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E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IST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048120" y="2492280"/>
          <a:ext cx="5575320" cy="576000"/>
        </p:xfrm>
        <a:graphic>
          <a:graphicData uri="http://schemas.openxmlformats.org/drawingml/2006/table">
            <a:tbl>
              <a:tblPr/>
              <a:tblGrid>
                <a:gridCol w="1913760"/>
                <a:gridCol w="1769400"/>
                <a:gridCol w="18921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E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IST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1116000" y="263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cnica liv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4427-1795-4662-AB0C-C68DC7683D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1628640"/>
            <a:ext cx="61930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sorse umane – CIMA AU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900000" y="2565360"/>
          <a:ext cx="7559640" cy="3427560"/>
        </p:xfrm>
        <a:graphic>
          <a:graphicData uri="http://schemas.openxmlformats.org/drawingml/2006/table">
            <a:tbl>
              <a:tblPr/>
              <a:tblGrid>
                <a:gridCol w="1506600"/>
                <a:gridCol w="1228680"/>
                <a:gridCol w="1297080"/>
                <a:gridCol w="1689120"/>
                <a:gridCol w="183816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T.O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sisten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el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Amm.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Tec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cc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Tec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2693-CDF4-4316-9C2E-A47A2E38A7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547640" y="1628640"/>
            <a:ext cx="61930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sorse umane – Polo di Piac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00000" y="2565360"/>
          <a:ext cx="7559640" cy="3427560"/>
        </p:xfrm>
        <a:graphic>
          <a:graphicData uri="http://schemas.openxmlformats.org/drawingml/2006/table">
            <a:tbl>
              <a:tblPr/>
              <a:tblGrid>
                <a:gridCol w="1506600"/>
                <a:gridCol w="1228680"/>
                <a:gridCol w="1297080"/>
                <a:gridCol w="1689120"/>
                <a:gridCol w="183816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T.O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sisten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el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Amm.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Tec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cc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Tec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582D-1DF0-4416-BED7-682189D1C9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noFill/>
                <a:latin typeface="Arial Black"/>
              </a:rPr>
              <a:t>ANALISI DI SITUAZIONE</a:t>
            </a:r>
            <a:endParaRPr b="1" lang="en-US" sz="2000" spc="1" strike="noStrike">
              <a:ln w="0">
                <a:noFill/>
              </a:ln>
              <a:noFill/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1547640" y="1628640"/>
            <a:ext cx="61930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sorse umane – Polo di N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00000" y="2565360"/>
          <a:ext cx="7559640" cy="3427560"/>
        </p:xfrm>
        <a:graphic>
          <a:graphicData uri="http://schemas.openxmlformats.org/drawingml/2006/table">
            <a:tbl>
              <a:tblPr/>
              <a:tblGrid>
                <a:gridCol w="1506600"/>
                <a:gridCol w="1301760"/>
                <a:gridCol w="1295280"/>
                <a:gridCol w="1617840"/>
                <a:gridCol w="183816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T.O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sisten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el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Amm.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Tec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Tec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 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2EF6-5876-4F79-9BE1-C554B81204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noFill/>
                <a:latin typeface="Arial Black"/>
              </a:rPr>
              <a:t>ANALISI DI SITUAZIONE</a:t>
            </a:r>
            <a:endParaRPr b="1" lang="en-US" sz="2000" spc="1" strike="noStrike">
              <a:ln w="0">
                <a:noFill/>
              </a:ln>
              <a:noFill/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1547640" y="1700280"/>
            <a:ext cx="619308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sorse umane – Polo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71640" y="2565360"/>
          <a:ext cx="7124760" cy="3611520"/>
        </p:xfrm>
        <a:graphic>
          <a:graphicData uri="http://schemas.openxmlformats.org/drawingml/2006/table">
            <a:tbl>
              <a:tblPr/>
              <a:tblGrid>
                <a:gridCol w="1780920"/>
                <a:gridCol w="1781280"/>
                <a:gridCol w="1781280"/>
                <a:gridCol w="1781280"/>
              </a:tblGrid>
              <a:tr h="72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T.O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sisten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el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ot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3DD2-6E25-4017-AC85-5047D6A4DB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noFill/>
                <a:latin typeface="Arial Black"/>
              </a:rPr>
              <a:t>ANALISI DI SITUAZIONE</a:t>
            </a:r>
            <a:endParaRPr b="1" lang="en-US" sz="2000" spc="1" strike="noStrike">
              <a:ln w="0">
                <a:noFill/>
              </a:ln>
              <a:noFill/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1700280"/>
            <a:ext cx="619308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sorse umane – Polo Te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71640" y="2565360"/>
          <a:ext cx="7129440" cy="3613320"/>
        </p:xfrm>
        <a:graphic>
          <a:graphicData uri="http://schemas.openxmlformats.org/drawingml/2006/table">
            <a:tbl>
              <a:tblPr/>
              <a:tblGrid>
                <a:gridCol w="1716120"/>
                <a:gridCol w="1476360"/>
                <a:gridCol w="1842840"/>
                <a:gridCol w="2094120"/>
              </a:tblGrid>
              <a:tr h="65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T.O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sisten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el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rea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ot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656F-CEE0-44E6-94AA-DE13C78511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1628640"/>
            <a:ext cx="64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2000" y="630864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2920" y="1989000"/>
            <a:ext cx="741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n idonei a misurare l’efficienza produttiva ma forniscono indicazioni di mas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blematica definizione ore dirette e indir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pporto ore dirette/indirette (tranne Terni) sempre inferiore 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alore spese generali relative a sole ore dirette elevato – Diminuisce se correlato anche alle ore appaltate all’Industria Pri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76360" y="1700280"/>
            <a:ext cx="6408720" cy="649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16000" y="17733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DICATORI ECONOMICO INDUST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94B2-70DF-4B79-B12C-5AB1AD7702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1628640"/>
            <a:ext cx="64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2000" y="630864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2421000"/>
            <a:ext cx="7416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blematica calcolo Costo orario dire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enomeno del “vuoto lavoro” (difficoltà di programmazione e di saturazione ore disponibi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n indicativi di scarsa attività lavorativa ma di limiti strutturali alla produ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3640" y="1773360"/>
            <a:ext cx="5905440" cy="649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8446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DICATORI ECONOMICO INDUST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65F0-8B78-467E-936E-69B3C22A9A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002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68160" y="1930320"/>
            <a:ext cx="8437680" cy="3700080"/>
            <a:chOff x="668160" y="1930320"/>
            <a:chExt cx="8437680" cy="3700080"/>
          </a:xfrm>
        </p:grpSpPr>
        <p:grpSp>
          <p:nvGrpSpPr>
            <p:cNvPr id="60" name=""/>
            <p:cNvGrpSpPr/>
            <p:nvPr/>
          </p:nvGrpSpPr>
          <p:grpSpPr>
            <a:xfrm>
              <a:off x="668160" y="1930320"/>
              <a:ext cx="8381880" cy="3692520"/>
              <a:chOff x="668160" y="1930320"/>
              <a:chExt cx="8381880" cy="369252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8716680" y="1930320"/>
                <a:ext cx="333360" cy="3692520"/>
                <a:chOff x="8716680" y="1930320"/>
                <a:chExt cx="333360" cy="3692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16680" y="2937600"/>
                  <a:ext cx="33336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716680" y="3272760"/>
                  <a:ext cx="33336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716680" y="3607920"/>
                  <a:ext cx="33336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716680" y="3944880"/>
                  <a:ext cx="33336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8716680" y="4280400"/>
                  <a:ext cx="33336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716680" y="4615560"/>
                  <a:ext cx="33336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716680" y="4950720"/>
                  <a:ext cx="33336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716680" y="5287680"/>
                  <a:ext cx="33336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716680" y="1930320"/>
                  <a:ext cx="33336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100000">
                      <a:srgbClr val="ffefd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716680" y="2265120"/>
                  <a:ext cx="33336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716680" y="2602080"/>
                  <a:ext cx="33336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668160" y="1930320"/>
                <a:ext cx="1600200" cy="3692520"/>
                <a:chOff x="668160" y="1930320"/>
                <a:chExt cx="1600200" cy="3692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68160" y="3944880"/>
                  <a:ext cx="16002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en. Col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68160" y="4280400"/>
                  <a:ext cx="16002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r. Gen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68160" y="4615560"/>
                  <a:ext cx="160020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rig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68160" y="2937600"/>
                  <a:ext cx="16002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.A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8160" y="3272760"/>
                  <a:ext cx="160020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agg. Gen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68160" y="3607920"/>
                  <a:ext cx="160020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ol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68160" y="4950720"/>
                  <a:ext cx="160020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r. Gen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68160" y="5287680"/>
                  <a:ext cx="16002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rig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68160" y="1930320"/>
                  <a:ext cx="160020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mm. Isp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68160" y="2265120"/>
                  <a:ext cx="160020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.A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68160" y="2602080"/>
                  <a:ext cx="16002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.A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268360" y="1930320"/>
                <a:ext cx="2197080" cy="3692520"/>
                <a:chOff x="2268360" y="1930320"/>
                <a:chExt cx="2197080" cy="3692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268360" y="4950720"/>
                  <a:ext cx="219708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UASTAMACCHI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268360" y="2937600"/>
                  <a:ext cx="21970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AFFI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68360" y="3272760"/>
                  <a:ext cx="219708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UCCIARDIN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268360" y="3607920"/>
                  <a:ext cx="219708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ONAVOGLI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268360" y="3944880"/>
                  <a:ext cx="21970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OSCI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268360" y="4280400"/>
                  <a:ext cx="21970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INIS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268360" y="4615560"/>
                  <a:ext cx="219708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SIDER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268360" y="5287680"/>
                  <a:ext cx="21970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C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268360" y="1930320"/>
                  <a:ext cx="219708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MAN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268360" y="2265120"/>
                  <a:ext cx="219708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IV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268360" y="2602080"/>
                  <a:ext cx="21970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IRARDELL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464000" y="1930320"/>
                <a:ext cx="1295280" cy="3692520"/>
                <a:chOff x="4464000" y="1930320"/>
                <a:chExt cx="1295280" cy="36925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464000" y="2937600"/>
                  <a:ext cx="12952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abi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464000" y="3272760"/>
                  <a:ext cx="129528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toni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464000" y="3607920"/>
                  <a:ext cx="129528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rmand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464000" y="3944880"/>
                  <a:ext cx="12952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lfons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464000" y="4280400"/>
                  <a:ext cx="12952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on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464000" y="4615560"/>
                  <a:ext cx="129528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ari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464000" y="4950720"/>
                  <a:ext cx="129528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mmas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4000" y="5287680"/>
                  <a:ext cx="12952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ergi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464000" y="1930320"/>
                  <a:ext cx="129528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asqua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464000" y="2265120"/>
                  <a:ext cx="129528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rrig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464000" y="2602080"/>
                  <a:ext cx="129528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al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759280" y="1930320"/>
                <a:ext cx="2957400" cy="3692520"/>
                <a:chOff x="5759280" y="1930320"/>
                <a:chExt cx="2957400" cy="3692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759280" y="2937600"/>
                  <a:ext cx="29574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Arial"/>
                    </a:rPr>
                    <a:t>MARIUGCRA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759280" y="3272760"/>
                  <a:ext cx="295740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Arial"/>
                    </a:rPr>
                    <a:t>COMLOG EI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759280" y="3607920"/>
                  <a:ext cx="295740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Arial"/>
                    </a:rPr>
                    <a:t>STATAEREO 4° Rep.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759280" y="3944880"/>
                  <a:ext cx="29574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Arial"/>
                    </a:rPr>
                    <a:t>STAMADIFESA 4° Rep.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759280" y="4280400"/>
                  <a:ext cx="29574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Arial"/>
                    </a:rPr>
                    <a:t>SEGREDIFESA 2° Rep.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759280" y="4615560"/>
                  <a:ext cx="295740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Arial"/>
                    </a:rPr>
                    <a:t>SEGREDIFESA 2° Rep.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759280" y="4950720"/>
                  <a:ext cx="295740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Arial"/>
                    </a:rPr>
                    <a:t>SEGREDIFESA UGGEATI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759280" y="5287680"/>
                  <a:ext cx="29574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Arial"/>
                    </a:rPr>
                    <a:t>SEGREDIFESA UGGEATI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759280" y="1930320"/>
                  <a:ext cx="2957400" cy="33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Arial"/>
                    </a:rPr>
                    <a:t>NAVISPELOG(Coordinatore)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759280" y="2265120"/>
                  <a:ext cx="295740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Arial"/>
                    </a:rPr>
                    <a:t>NAVISPELOG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59280" y="2602080"/>
                  <a:ext cx="2957400" cy="33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1c39f"/>
                    </a:gs>
                    <a:gs pos="5000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Arial"/>
                    </a:rPr>
                    <a:t>MARISTAT UPPF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"/>
            <p:cNvGrpSpPr/>
            <p:nvPr/>
          </p:nvGrpSpPr>
          <p:grpSpPr>
            <a:xfrm>
              <a:off x="8672400" y="1949040"/>
              <a:ext cx="433440" cy="3681360"/>
              <a:chOff x="8672400" y="1949040"/>
              <a:chExt cx="433440" cy="368136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772480" y="1949040"/>
                <a:ext cx="245880" cy="29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72480" y="2298960"/>
                <a:ext cx="245880" cy="29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772480" y="2618280"/>
                <a:ext cx="245880" cy="29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772480" y="2968200"/>
                <a:ext cx="245880" cy="29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72400" y="3269880"/>
                <a:ext cx="433440" cy="34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61320" y="3629880"/>
                <a:ext cx="25560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737560" y="4293360"/>
                <a:ext cx="306360" cy="33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739000" y="4641840"/>
                <a:ext cx="306360" cy="33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740440" y="4950720"/>
                <a:ext cx="306360" cy="33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742240" y="5299560"/>
                <a:ext cx="306360" cy="33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783280" y="3959280"/>
                <a:ext cx="216000" cy="32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3" name=""/>
          <p:cNvGrpSpPr/>
          <p:nvPr/>
        </p:nvGrpSpPr>
        <p:grpSpPr>
          <a:xfrm>
            <a:off x="673200" y="5791320"/>
            <a:ext cx="8381880" cy="304560"/>
            <a:chOff x="673200" y="5791320"/>
            <a:chExt cx="8381880" cy="304560"/>
          </a:xfrm>
        </p:grpSpPr>
        <p:grpSp>
          <p:nvGrpSpPr>
            <p:cNvPr id="134" name=""/>
            <p:cNvGrpSpPr/>
            <p:nvPr/>
          </p:nvGrpSpPr>
          <p:grpSpPr>
            <a:xfrm>
              <a:off x="673200" y="5791320"/>
              <a:ext cx="8381880" cy="304560"/>
              <a:chOff x="673200" y="5791320"/>
              <a:chExt cx="8381880" cy="304560"/>
            </a:xfrm>
          </p:grpSpPr>
          <p:sp>
            <p:nvSpPr>
              <p:cNvPr id="135" name=""/>
              <p:cNvSpPr/>
              <p:nvPr/>
            </p:nvSpPr>
            <p:spPr>
              <a:xfrm>
                <a:off x="673200" y="5791320"/>
                <a:ext cx="1600200" cy="304560"/>
              </a:xfrm>
              <a:prstGeom prst="rect">
                <a:avLst/>
              </a:prstGeom>
              <a:gradFill rotWithShape="0">
                <a:gsLst>
                  <a:gs pos="0">
                    <a:srgbClr val="c3d79d"/>
                  </a:gs>
                  <a:gs pos="50000">
                    <a:srgbClr val="e8ffbb"/>
                  </a:gs>
                  <a:gs pos="100000">
                    <a:srgbClr val="c3d79d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Cons. D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3400" y="5791320"/>
                <a:ext cx="2197080" cy="304560"/>
              </a:xfrm>
              <a:prstGeom prst="rect">
                <a:avLst/>
              </a:prstGeom>
              <a:gradFill rotWithShape="0">
                <a:gsLst>
                  <a:gs pos="0">
                    <a:srgbClr val="c3d79d"/>
                  </a:gs>
                  <a:gs pos="50000">
                    <a:srgbClr val="e8ffbb"/>
                  </a:gs>
                  <a:gs pos="100000">
                    <a:srgbClr val="c3d79d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ORELL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661240" y="5791320"/>
                <a:ext cx="393840" cy="304560"/>
              </a:xfrm>
              <a:prstGeom prst="rect">
                <a:avLst/>
              </a:prstGeom>
              <a:gradFill rotWithShape="0">
                <a:gsLst>
                  <a:gs pos="0">
                    <a:srgbClr val="c3d79d"/>
                  </a:gs>
                  <a:gs pos="50000">
                    <a:srgbClr val="e8ffbb"/>
                  </a:gs>
                  <a:gs pos="100000">
                    <a:srgbClr val="c3d79d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40560" y="5791320"/>
                <a:ext cx="2984400" cy="304560"/>
              </a:xfrm>
              <a:prstGeom prst="rect">
                <a:avLst/>
              </a:prstGeom>
              <a:gradFill rotWithShape="0">
                <a:gsLst>
                  <a:gs pos="0">
                    <a:srgbClr val="c3d79d"/>
                  </a:gs>
                  <a:gs pos="50000">
                    <a:srgbClr val="e8ffbb"/>
                  </a:gs>
                  <a:gs pos="100000">
                    <a:srgbClr val="c3d79d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PRESIDENZA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SIGLIO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70480" y="5791320"/>
                <a:ext cx="1295280" cy="304560"/>
              </a:xfrm>
              <a:prstGeom prst="rect">
                <a:avLst/>
              </a:prstGeom>
              <a:gradFill rotWithShape="0">
                <a:gsLst>
                  <a:gs pos="0">
                    <a:srgbClr val="c3d79d"/>
                  </a:gs>
                  <a:gs pos="50000">
                    <a:srgbClr val="e8ffbb"/>
                  </a:gs>
                  <a:gs pos="100000">
                    <a:srgbClr val="c3d79d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aud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" name="" descr=""/>
            <p:cNvPicPr/>
            <p:nvPr/>
          </p:nvPicPr>
          <p:blipFill>
            <a:blip r:embed="rId12"/>
            <a:stretch/>
          </p:blipFill>
          <p:spPr>
            <a:xfrm>
              <a:off x="8750160" y="5810400"/>
              <a:ext cx="29232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 txBox="1"/>
          <p:nvPr/>
        </p:nvSpPr>
        <p:spPr>
          <a:xfrm>
            <a:off x="1981080" y="914400"/>
            <a:ext cx="54104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46"/>
                </a:solidFill>
                <a:latin typeface="Arial Black"/>
              </a:rPr>
              <a:t>COMPOSIZIONE DEL GRUPPO 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46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39DB-635D-45F6-A0F7-B5D175C03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1403280" y="2205000"/>
            <a:ext cx="6481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INFRASTRUTTURE: grave stato di degrado – piani infrastrutturali non finanzi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ISPONIBILITA’ FONDI ESERCIZIO: in diminuzione dal 2002 (- 5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ADEGUATEZZA ALL’ EVOLUZIONE DELLO STRUMENTO MILITARE: gap destinato ad aum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D29E-B266-4383-B097-989A8138A3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I LIMITI STRUTTURALI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1563840" y="2286000"/>
            <a:ext cx="6970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truttura organizzativa:parcellizzata, su eccessivi livelli gerarchici, burocratiz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CNL: assenza flessibilità ed incenti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omposizione organici e Mansionario: rigidi e scollegati dall’evoluzione delle lavo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golamentazioni giuridiche/amministrative complicate e farraginose (evidenziate anche da introduzione soluzioni Software S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2438280"/>
            <a:ext cx="15264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3352680"/>
            <a:ext cx="15264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388620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480060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88DB-C351-46A2-A92C-F9FC68B7C3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NECESSITA' DEL CAMBIAMENTO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1760400" y="2060640"/>
            <a:ext cx="6697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cessità eliminare i “limiti struttura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fficoltà finanziamenti per infrastrutture ed assu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te evoluzione tecnologica dello Strumento mili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umento dei costi del ricorso all’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cessarie nuove forme di relazione Difes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19708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275580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67020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457200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1181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A453-02BB-4A3E-A71D-48859959D8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NECESSITA' DEL CAMBIAMENTO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1579680" y="1484280"/>
            <a:ext cx="748800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uove forme di contratti (Global Support, Level Service Agreement, Disponibilità opera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endenza della P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ad acquisire risorse dal mercato ma anche a collocarvi propri asset di va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abbandonare l’azione burocratica per adottare modelli di gestione “privatist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31920" y="4000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44520" y="4927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7320" y="2286000"/>
            <a:ext cx="6606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7320" y="3657600"/>
            <a:ext cx="6606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E324-2672-4A0B-97E5-B160DE7176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PROPOSTE DI SOLU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1258920" y="1773360"/>
            <a:ext cx="669780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3280" y="19890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ZIONI MIGLIORATIVE ALL’INTERNO DELL’ATTUALE MODELLO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Breve peri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8920" y="3200400"/>
            <a:ext cx="6697800" cy="194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350028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3429000"/>
            <a:ext cx="64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OLUZIONE SECONDO UNA VISIONE INDUSTRIALE CON ADOZIONE DI MODELLI “ORDINATIVI ALTERNATIVI”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medio lungo peri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8920" y="53499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E PROPOSTE SONO DISTINTE MA CONCORRONO ALLO STESSO 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6E81-E69C-4C67-9DBC-52E4D7F6DC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OLUZIONI MIGLIORATIV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3141720"/>
            <a:ext cx="6624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azionalizzazione delle infrastrutture e delle lavo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Valorizzazione con criteri “privatistici” degli asset disponibili: beni immobili -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lazioni sindacali ad impronta indust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1773360"/>
            <a:ext cx="669780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BIETTIVO:AUMENTO DELLA REDDI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2349360"/>
            <a:ext cx="576360" cy="648000"/>
          </a:xfrm>
          <a:prstGeom prst="downArrow">
            <a:avLst>
              <a:gd name="adj1" fmla="val 50000"/>
              <a:gd name="adj2" fmla="val 281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FA98-F7CB-47BD-9965-3FA58A5453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OLUZIONI MIGLIORATIV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1258920" y="2852640"/>
            <a:ext cx="6624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ermuta di prestazioni e materiali (commi 568-569 Finanziaria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Valorizzazione  e Permuta  di beni immobili (Aree/Infrastrutture) (commi 262-263 Finanziaria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ject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odifiche al CC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19280" y="1700280"/>
            <a:ext cx="53290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RUMENTI: RICORS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4000" y="220500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B169-BD26-43AF-88BF-A47AB11BFD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OLUZIONI MIGLIORATIV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924280"/>
            <a:ext cx="66247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efinizione perimetro attività industri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visione Piani Regol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azionalizzazione delle infrastrutture Riorganizzazione delle lavo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Individuazione prestazioni per permuta e aree/infrastrutture per couso (“utilizzo congiunt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76360" y="1773360"/>
            <a:ext cx="5040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VILUPPO: A CURA 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2349360"/>
            <a:ext cx="432000" cy="574920"/>
          </a:xfrm>
          <a:prstGeom prst="downArrow">
            <a:avLst>
              <a:gd name="adj1" fmla="val 50000"/>
              <a:gd name="adj2" fmla="val 3327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993B-4C38-4CE9-8080-8DBFE9D073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OLUZIONI MIGLIORATIV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1258920" y="2637000"/>
            <a:ext cx="6624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ruttura Funzione Marketing propul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ruttura coordinamento Accordi Programma sul territorio (Enti Loc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ertura Tavolo tecnico con OOSS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ione Piani infrastrutture/Lavo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ifiche al CC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ozione modello ordinativo altern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16000" y="1628640"/>
            <a:ext cx="540072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VILUPPO: A CURA GABDIFE- 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C219-3474-4062-9B0F-AEE7E2EDBA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OLUZIONI MIGLIORATIV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2565360"/>
            <a:ext cx="6624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poste inserimenti in Finanziaria 200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artecipazione attiva AD Accordi Quadro e di Programma per valorizzazione a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odifica alla clausola “permuta”: compenso diretto “finanziario” in deroga a tetti riassegn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Variante del “couso” immobili in “uso congiunto” con utilizzo  clausola “permu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1628640"/>
            <a:ext cx="540072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VILUPPO: A CURA GABDIFE- 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4000" y="220500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A5E2-93E7-4EED-BED8-1862AC2B6D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81080" y="914400"/>
            <a:ext cx="54104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46"/>
                </a:solidFill>
                <a:latin typeface="Arial Black"/>
              </a:rPr>
              <a:t>MANDATO - SINTESI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46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612800"/>
            <a:ext cx="7086600" cy="6426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6"/>
                </a:solidFill>
                <a:latin typeface="Arial"/>
                <a:ea typeface="Arial"/>
              </a:rPr>
              <a:t>CONSIDERATO IL QUADRO LEGISLATIVO DI RIFERIMENTO E LE PROBLEMATICHE IN CORSO</a:t>
            </a:r>
            <a:r>
              <a:rPr b="0" lang="en-US" sz="1800" spc="-1" strike="noStrike">
                <a:solidFill>
                  <a:srgbClr val="00004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577960"/>
            <a:ext cx="7086600" cy="119124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6"/>
                </a:solidFill>
                <a:latin typeface="Arial"/>
                <a:ea typeface="Arial"/>
              </a:rPr>
              <a:t>RAVVISATA LA NECESSITÀ DI INDIVIDUARE OGNI POSSIBILE STRUMENTO PER MIGLIORARE LA REDDITIVITÀ DEGLI ENTI ANCHE MEDIANTE LO STUDIO DI </a:t>
            </a:r>
            <a:r>
              <a:rPr b="1" lang="en-US" sz="1800" spc="-1" strike="noStrike" u="sng">
                <a:solidFill>
                  <a:srgbClr val="000046"/>
                </a:solidFill>
                <a:uFillTx/>
                <a:latin typeface="Arial"/>
                <a:ea typeface="Arial"/>
              </a:rPr>
              <a:t>“MODELLI ORDINATIVI ALTERNATIVI”</a:t>
            </a:r>
            <a:r>
              <a:rPr b="1" lang="en-US" sz="1800" spc="-1" strike="noStrike">
                <a:solidFill>
                  <a:srgbClr val="00004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3035160"/>
            <a:ext cx="457200" cy="26352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914400" y="4114800"/>
            <a:ext cx="7924680" cy="2209680"/>
            <a:chOff x="914400" y="4114800"/>
            <a:chExt cx="7924680" cy="2209680"/>
          </a:xfrm>
        </p:grpSpPr>
        <p:sp>
          <p:nvSpPr>
            <p:cNvPr id="148" name=""/>
            <p:cNvSpPr/>
            <p:nvPr/>
          </p:nvSpPr>
          <p:spPr>
            <a:xfrm>
              <a:off x="914400" y="4114800"/>
              <a:ext cx="7924680" cy="2209680"/>
            </a:xfrm>
            <a:prstGeom prst="bevel">
              <a:avLst>
                <a:gd name="adj" fmla="val 6704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6680" y="4280040"/>
              <a:ext cx="7620120" cy="1922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ELABORARE UNA PROPOSTA UNITARIA ED ORGANICA PER LA SOLUZIONE DELLE PROBLEMATICHE DEGLI ARSENALI E DEGLI STABILIMENTI A CARATTERE TECN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INDUSTRIALE DELLA DIFE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2B39-F16A-4F2B-8B8D-D05A63A65D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EVOLUZIONE SECONDO VISIONE INDUSTRIAL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1773360"/>
            <a:ext cx="604872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ORGANIZZAZIONE DEI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47640" y="2421000"/>
            <a:ext cx="64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serc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ianificazion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 delle Manute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gegneria del Su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24360" y="3500280"/>
            <a:ext cx="934920" cy="576360"/>
          </a:xfrm>
          <a:custGeom>
            <a:avLst/>
            <a:gdLst>
              <a:gd name="textAreaLeft" fmla="*/ 116640 w 934920"/>
              <a:gd name="textAreaRight" fmla="*/ 818280 w 934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5B61-9182-4256-947C-552F01A056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EVOLUZIONE SECONDO VISIONE INDUSTRIAL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1773360"/>
            <a:ext cx="655308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PLICAZIONE ARSENALE DI TAR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227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Linee guida del camb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3141720"/>
            <a:ext cx="6481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ovo ruolo della Struttura Cen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ticolazione “leggera”degli Arsenali (Unità Oper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sione “integrata” dei program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zionalizzazione siti produ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lezione “prodot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43280" y="2708280"/>
            <a:ext cx="288720" cy="504720"/>
          </a:xfrm>
          <a:prstGeom prst="downArrow">
            <a:avLst>
              <a:gd name="adj1" fmla="val 50000"/>
              <a:gd name="adj2" fmla="val 4370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1280" y="2708280"/>
            <a:ext cx="289080" cy="504720"/>
          </a:xfrm>
          <a:prstGeom prst="downArrow">
            <a:avLst>
              <a:gd name="adj1" fmla="val 50000"/>
              <a:gd name="adj2" fmla="val 436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59280" y="2708280"/>
            <a:ext cx="289080" cy="504720"/>
          </a:xfrm>
          <a:prstGeom prst="downArrow">
            <a:avLst>
              <a:gd name="adj1" fmla="val 50000"/>
              <a:gd name="adj2" fmla="val 436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5462-7793-4333-A147-CADF4E5D17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EVOLUZIONE SECONDO VISIONE INDUSTRIAL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40" name=""/>
          <p:cNvSpPr/>
          <p:nvPr/>
        </p:nvSpPr>
        <p:spPr>
          <a:xfrm>
            <a:off x="1258920" y="1773360"/>
            <a:ext cx="655308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PLICAZIONE ARSENALE DI TAR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2276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Linee guida del camb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03280" y="3141720"/>
            <a:ext cx="6481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upero attività svolte da ter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iù lunga permanenza del Personale con funzioni dir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quisizione volumi all’es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ttimizzazione con misurazione continua delle prestazioni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si migliora solo ciò che si mis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14560" y="27082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22560" y="27082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270828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6A1B-B360-44BA-919E-EA6FF9A430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EVOLUZIONE SECONDO VISIONE INDUSTRIAL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349360"/>
            <a:ext cx="6985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levanti trasformazioni sul piano strutturale ed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cessità di operare secondo Codice civile e rapporti di lavoro propri del mondo imprenditoriale ed indust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ione profonda della struttura e dei regolamenti di funz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F210-8781-44A3-9B09-A92544CC27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EVOLUZIONE SECONDO VISIONE INDUSTRIAL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3500280"/>
            <a:ext cx="662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ge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nte Pubblico 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cietà 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si all’estero (Germania, Regno Unito, Fra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74760" y="169056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58920" y="1700280"/>
            <a:ext cx="6842160" cy="1015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NSIZIONE A MODELLI ORDIN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TERN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852640"/>
            <a:ext cx="358560" cy="647640"/>
          </a:xfrm>
          <a:prstGeom prst="downArrow">
            <a:avLst>
              <a:gd name="adj1" fmla="val 50000"/>
              <a:gd name="adj2" fmla="val 4515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38C4-41C0-4AC7-8DCD-68238F9EDD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EVOLUZIONE SECONDO VISIONE INDUSTRIAL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1274760" y="169056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58920" y="1844640"/>
            <a:ext cx="6842160" cy="1015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GERMAN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ocietà mista “Vehicle Management Gmbh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7280" y="3213000"/>
            <a:ext cx="691380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GNO UNITO:                                          Società “Fleet Support Ltd”  (utilizza personale della Dife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 rot="10800000">
            <a:off x="1187280" y="4796280"/>
            <a:ext cx="70581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FRANCIA:                                                                 DCN: SpA posseduta dallo St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82E8-2DEA-4477-9CE0-F9CC1A3C4F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EVOLUZIONE SECONDO VISIONE INDUSTRIAL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2492280"/>
            <a:ext cx="6624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celta soluzione ristretta a EPE e Soc.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EPE:  evoluzione meno “traumatica”       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truttura sempre “pubblica”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blema personale meglio gestibile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oc. mista: complessa la scelta del partner, difficoltà patti paraso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EPE:                SpA                Società mi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184464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6000" y="21337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08720" y="213372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40360" y="530064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95640" y="5300640"/>
            <a:ext cx="936360" cy="358920"/>
          </a:xfrm>
          <a:custGeom>
            <a:avLst/>
            <a:gdLst>
              <a:gd name="textAreaLeft" fmla="*/ 146160 w 936360"/>
              <a:gd name="textAreaRight" fmla="*/ 819360 w 936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971640" y="1628280"/>
            <a:ext cx="712944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ALISI MODELLI ORDINATIVI ALTERN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9603-35AD-4733-A63E-8F06C03039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CELTA DEL MODELLO ORDINATIVO ALTERNATIVO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72" name=""/>
          <p:cNvSpPr/>
          <p:nvPr/>
        </p:nvSpPr>
        <p:spPr>
          <a:xfrm>
            <a:off x="1274760" y="169056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58920" y="285264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87280" y="2421000"/>
            <a:ext cx="6624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assaggio all’EPE con struttura da 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ubblico ed evoluzione verso stato SpA posseduta da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uccessiva  eventuale attivazione Società miste di scopo (bacini, laboratori, missi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1 EPE per gli Stabilimenti EI e MMI ma articolato su 2 Dipartimenti oper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ipendenza EPE        Alta Vigilanza Min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280" y="1557360"/>
            <a:ext cx="331308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80000" y="5805360"/>
            <a:ext cx="431640" cy="28764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629B-AF18-44D4-8DF9-0D6AD96A54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PPLICAZIONE EPE 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1692360" y="1628640"/>
            <a:ext cx="684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trategia di ev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i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viluppo Road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oordinato a livello politico (S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esieduto da Esperto in ristruttu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on professionalità della Dif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74760" y="169056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08720" y="3500280"/>
            <a:ext cx="358560" cy="505080"/>
          </a:xfrm>
          <a:custGeom>
            <a:avLst/>
            <a:gdLst>
              <a:gd name="textAreaLeft" fmla="*/ 47880 w 358560"/>
              <a:gd name="textAreaRight" fmla="*/ 310680 w 35856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16000" y="350028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35280" y="1700280"/>
            <a:ext cx="302400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50920" y="1700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fin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92360" y="3933720"/>
            <a:ext cx="381636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itato Pil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5EE9-DE00-4863-B063-6AE0952E5F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TRATEGIA EPE STABILIMENTI EI MMI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/>
          <p:nvPr/>
        </p:nvSpPr>
        <p:spPr>
          <a:xfrm>
            <a:off x="900000" y="1413000"/>
            <a:ext cx="7201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cc"/>
                </a:solidFill>
                <a:uFillTx/>
                <a:latin typeface="Arial"/>
              </a:rPr>
              <a:t>Risorse umane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: Reimpiego, riqualifica o esodo programmato delle risorse presenti. Conservazione nel lungo periodo (5 anni) almeno dei volumi occupazionali att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cc"/>
                </a:solidFill>
                <a:uFillTx/>
                <a:latin typeface="Arial"/>
              </a:rPr>
              <a:t>Mezzi/Infrastrutture industriali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: Utilizzo completo o alienazione con possibile valorizzazione dell’esistente. Acquisizione mezzi necessari non dispon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efinizione </a:t>
            </a:r>
            <a:r>
              <a:rPr b="1" lang="it-IT" sz="2400" spc="-1" strike="noStrike" u="sng">
                <a:solidFill>
                  <a:srgbClr val="0000cc"/>
                </a:solidFill>
                <a:uFillTx/>
                <a:latin typeface="Arial"/>
              </a:rPr>
              <a:t>Road map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evolutiva sotto il profilo normativo ed industriale (Comitato Pil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12FA-E3E3-4152-8CC6-B1ED15CF21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6858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NDATO: DEFINIZIONE DEL PERIMETRO DELLE ATTIVITA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429000"/>
            <a:ext cx="1828800" cy="855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6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46"/>
                </a:solidFill>
                <a:latin typeface="Arial"/>
                <a:ea typeface="Arial"/>
              </a:rPr>
              <a:t> GRUPPI DI STABIL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96960"/>
            <a:ext cx="5715000" cy="7830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6"/>
                </a:solidFill>
                <a:latin typeface="Arial"/>
                <a:ea typeface="Arial"/>
              </a:rPr>
              <a:t>STABILIMENTI TABELLA  “A” E “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6"/>
                </a:solidFill>
                <a:latin typeface="Arial"/>
                <a:ea typeface="Arial"/>
              </a:rPr>
              <a:t>(POLI ESERCITO, ARSENALI</a:t>
            </a:r>
            <a:r>
              <a:rPr b="1" lang="en-US" sz="2000" spc="-1" strike="noStrike">
                <a:solidFill>
                  <a:srgbClr val="000046"/>
                </a:solidFill>
                <a:latin typeface="Arial"/>
              </a:rPr>
              <a:t> MARINA, C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518000"/>
            <a:ext cx="2244600" cy="7038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6"/>
                </a:solidFill>
                <a:latin typeface="Arial"/>
                <a:ea typeface="Arial"/>
              </a:rPr>
              <a:t>STABILIMENTI TABELLA  “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1" idx="3"/>
            <a:endCxn id="152" idx="1"/>
          </p:cNvCxnSpPr>
          <p:nvPr/>
        </p:nvCxnSpPr>
        <p:spPr>
          <a:xfrm flipV="1">
            <a:off x="2590920" y="2890440"/>
            <a:ext cx="457920" cy="970560"/>
          </a:xfrm>
          <a:prstGeom prst="bentConnector3">
            <a:avLst>
              <a:gd name="adj1" fmla="val 49960"/>
            </a:avLst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1" idx="3"/>
            <a:endCxn id="153" idx="1"/>
          </p:cNvCxnSpPr>
          <p:nvPr/>
        </p:nvCxnSpPr>
        <p:spPr>
          <a:xfrm>
            <a:off x="2590920" y="3860640"/>
            <a:ext cx="457920" cy="1013760"/>
          </a:xfrm>
          <a:prstGeom prst="bentConnector3">
            <a:avLst>
              <a:gd name="adj1" fmla="val 49960"/>
            </a:avLst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072120" y="3824280"/>
            <a:ext cx="2244960" cy="7513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6"/>
                </a:solidFill>
                <a:latin typeface="Arial"/>
                <a:ea typeface="Arial"/>
              </a:rPr>
              <a:t>CAP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6"/>
                </a:solidFill>
                <a:latin typeface="Arial"/>
                <a:ea typeface="Arial"/>
              </a:rPr>
              <a:t>P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72120" y="5157720"/>
            <a:ext cx="2244960" cy="7513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46"/>
                </a:solidFill>
                <a:latin typeface="Arial"/>
                <a:ea typeface="Arial"/>
              </a:rPr>
              <a:t>Unità Produt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46"/>
                </a:solidFill>
                <a:latin typeface="Arial"/>
                <a:ea typeface="Arial"/>
              </a:rPr>
              <a:t>Ag. Ind. Dif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3" idx="3"/>
            <a:endCxn id="156" idx="1"/>
          </p:cNvCxnSpPr>
          <p:nvPr/>
        </p:nvCxnSpPr>
        <p:spPr>
          <a:xfrm flipV="1">
            <a:off x="5292360" y="4203000"/>
            <a:ext cx="780120" cy="670680"/>
          </a:xfrm>
          <a:prstGeom prst="bentConnector3">
            <a:avLst>
              <a:gd name="adj1" fmla="val 49861"/>
            </a:avLst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3" idx="3"/>
            <a:endCxn id="157" idx="1"/>
          </p:cNvCxnSpPr>
          <p:nvPr/>
        </p:nvCxnSpPr>
        <p:spPr>
          <a:xfrm>
            <a:off x="5292360" y="4873320"/>
            <a:ext cx="780120" cy="664200"/>
          </a:xfrm>
          <a:prstGeom prst="bentConnector3">
            <a:avLst>
              <a:gd name="adj1" fmla="val 4986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4F63-66D4-4EE2-BA6B-27C2B0AD3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MISSIONE EPE AREA ARSENALI MMI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91" name=""/>
          <p:cNvSpPr/>
          <p:nvPr/>
        </p:nvSpPr>
        <p:spPr>
          <a:xfrm>
            <a:off x="900000" y="1341360"/>
            <a:ext cx="72010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estione attività di manutenzione della Flotta nazionale e di Paesi ter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oluzione possibile verso Supporto Logistico Integ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spansione attività anche a naviglio non mili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litica rapporti con l’industria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cerca equilibrio economico in uno scenario competitivo europeo entro 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5476-045A-4C3D-A828-3CB8BEA13A8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58920" y="91440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MISSIONE EPE AREA POLI EI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900000" y="1341360"/>
            <a:ext cx="72010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estione attività di manutenzione per i Sistemi d’Arma nazionali e di Paesi ter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oluzione possibile verso Supporto Logistico Integ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spansione attività anche a materiali non militari ma con tecnologia om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litica rapporti con l’industria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cerca equilibrio economico in uno scenario competitivo europeo entro 5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82A0-BF65-4698-93E5-AF5A308EFF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PPLICAZIONE EPE STABILIMENTI EI MMI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399" name=""/>
          <p:cNvSpPr/>
          <p:nvPr/>
        </p:nvSpPr>
        <p:spPr>
          <a:xfrm>
            <a:off x="1116000" y="2205000"/>
            <a:ext cx="6840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ecessario interfacciamento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Altri Ministeri (FP, MEF, MSE, Infrast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Enti Locali (Accordi Program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OSS (informazione, concert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alendarizzazione della Road M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Business plan,Provvedimenti legislativi, Creazione EPE,Trasformazione in SpA e attivazione successiva Società m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00360" y="1628640"/>
            <a:ext cx="388764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ITATO PIL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5A47-B946-47DC-B664-A76DB77977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ROAD MAP EPE ARSENALI E POLI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1916280"/>
            <a:ext cx="6840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 sviluppo può essere accelerato se si interviene in sede di Finanziaria/Collegati per il varo di una Legge Delega in ma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71640" y="3284640"/>
            <a:ext cx="432000" cy="5760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87280" y="4005360"/>
            <a:ext cx="61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ormare la transizione di medio peri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efinire e approvare i Decreti applic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32360" y="3284640"/>
            <a:ext cx="431640" cy="576000"/>
          </a:xfrm>
          <a:prstGeom prst="downArrow">
            <a:avLst>
              <a:gd name="adj1" fmla="val 50000"/>
              <a:gd name="adj2" fmla="val 3336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D489-7AB1-4D88-BD41-E5A11ACC94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ROAD MAP EPE ARSENALI E POLI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1116000" y="2205000"/>
            <a:ext cx="68407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Approvazione proposta: 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omina del Comitato Pilota, definizione missione e scadenze: 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esentazione e approvazione del Business Plan (T0</a:t>
            </a:r>
            <a:r>
              <a:rPr b="1" lang="fr-BE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T0+12 mesi): Definizione “tecnica” delle soluzioni, Accordi Programma sul territorio, Piano industriale dettagl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viluppo provvedimenti legislativi, giuridici e normativi (T0 </a:t>
            </a:r>
            <a:r>
              <a:rPr b="1" lang="fr-BE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T0+12 me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92360" y="1700280"/>
            <a:ext cx="5327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ARIO DI MAS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59FC-C434-4F57-9665-62A68073BA4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ROAD MAP EPE ARSENALI E POLI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1700280"/>
            <a:ext cx="6840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reazione della Struttura scel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EPE con struttura di Ente Pubblico (T0 +12 </a:t>
            </a:r>
            <a:r>
              <a:rPr b="1" lang="fr-BE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T0+ 18 mesi) trasformabile in SpA posseduta interamente da MEF (T0 +18 </a:t>
            </a:r>
            <a:r>
              <a:rPr b="1" lang="fr-BE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T0+ 24 me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Attivazione eventuale di Società miste (T0 +24 </a:t>
            </a:r>
            <a:r>
              <a:rPr b="1" lang="fr-BE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T0+ 48 mesi): bando di gara, scelta del contra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In permanenza: Gestione comunicazione, delle relazioni sindacali, azioni di revisione e miglioramento, misurazione delle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B62A-A310-483C-AD83-A9B5510328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OLUZIONE AGENZIA AID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1332000" y="184464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1916280"/>
            <a:ext cx="28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6360" y="162864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NSIDERATE CRITICITA’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40360" y="2133720"/>
            <a:ext cx="502920" cy="790560"/>
          </a:xfrm>
          <a:prstGeom prst="downArrow">
            <a:avLst>
              <a:gd name="adj1" fmla="val 50000"/>
              <a:gd name="adj2" fmla="val 3929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50920" y="4210200"/>
            <a:ext cx="53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47640" y="435456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32000" y="2997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ZIONE SCONSIGL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3716280"/>
            <a:ext cx="7201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Impossibilità di si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Aumento di dispersione su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ecessità di tenere distinti i due percorsi di efficien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F1F6-FC33-46FC-801F-FC60154A7D5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CONCLUSIONI PROPOSTE A MODELLO ATTUAL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26" name=""/>
          <p:cNvSpPr/>
          <p:nvPr/>
        </p:nvSpPr>
        <p:spPr>
          <a:xfrm>
            <a:off x="1042920" y="2133720"/>
            <a:ext cx="6624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ubito avviabili e sviluppabili nel giro di 12 mesi, innescano un processo “virtuoso”, sono congruenti con road map 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posto inserimento problematica in DPEF 2008 e assegnazione Finanziamento straordinario dedic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ecessario sviluppare e inserire proposte definite in Finanziari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74760" y="169056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B653-98FD-4BC6-8CDF-A83657E032E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CONCLUSIONI PROPOSTA MODELLO EP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30" name=""/>
          <p:cNvSpPr/>
          <p:nvPr/>
        </p:nvSpPr>
        <p:spPr>
          <a:xfrm>
            <a:off x="971640" y="1484280"/>
            <a:ext cx="684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mbiamento “straordinario”: adozione di uno  strumento innovativo per gestire attività di interesse pub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provazione del Vertice Politico (PCM e Ministro Dife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cerca consenso basata su comunicazione “trasparent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sformare il Gruppo di Lavoro in “Comitato Interforze propedeutico all’attuazione di un EPE finalizzato alla gestione degli Enti a carattere tecnico-industriale della Difes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74760" y="169056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8161-557E-4970-866A-22E2414D48C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TABILIMENTI TABELLA "C"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34" name=""/>
          <p:cNvSpPr/>
          <p:nvPr/>
        </p:nvSpPr>
        <p:spPr>
          <a:xfrm>
            <a:off x="1274760" y="169056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403280" y="2205000"/>
            <a:ext cx="604836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ilitare del Genio di Pavia (231 unit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ilitare Pirotecnico di Capua (321 unit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Baiano, Noceto, Firenze, La Maddalena, Fontana Liri, Messina, Castellammare di Stabia, Torre Annunziata, Gaeta       (1342 unit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03280" y="1628640"/>
            <a:ext cx="532944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 STABILIMENTI (SG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76360" y="3645000"/>
            <a:ext cx="554508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76360" y="3429000"/>
            <a:ext cx="554364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9 UNITA’ PRODUTTIVE INDUSTRIALI (Agenzia Industrie Dife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BE8D-6448-4F87-94D3-80704D8D732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TABILIMENTI TABELLA "A" E "B"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673200" y="1498680"/>
            <a:ext cx="4151160" cy="5054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29120" y="1492200"/>
            <a:ext cx="4151520" cy="3308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523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P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1523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ARSE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213372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O DI MANTENIMENTO PESANTE DI N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8954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O DI MANTENIMENTO PESANTE DI PIAC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3657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O DI MANTENIMENTO ARMI LEGGERE DI TE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41972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O DI MANTENIMENTO DEI MEZZI ELETTRONICI E OPTOELETTRONICI 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547056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ENTRO INTERFORZE PER IL MUNIZIONAMENTO AVANZATO DI AU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21337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SENALE MILITARE MARITTIMO DI  TARA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89548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SENALE MILITARE MARITTIMO DI LA SPEZ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36576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SENALE MILITARE MARITTIMO DI AU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74720" y="2311560"/>
            <a:ext cx="538200" cy="341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74720" y="3073320"/>
            <a:ext cx="538200" cy="34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74720" y="3849840"/>
            <a:ext cx="538200" cy="341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774720" y="4738680"/>
            <a:ext cx="538200" cy="341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812880" y="5638680"/>
            <a:ext cx="463320" cy="614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5105520" y="2171880"/>
            <a:ext cx="463320" cy="614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5105520" y="2954160"/>
            <a:ext cx="463320" cy="614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5105520" y="3703680"/>
            <a:ext cx="463320" cy="61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740A-2BB9-4FE6-A797-F99B0DFA0B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TABILIMENTI CAPUA E PAVIA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42920" y="2205000"/>
            <a:ext cx="6985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orte condizionata da mancato passaggio alla Protezione Civ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In corso alcune iniziative di produzione / lavorazione tes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Impegnare il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antenere un certo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Evitare degrado attrezzature ed impi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13C3-6C5D-4D56-AA0B-FB736FFDFE9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TABILIMENTI CAPUA E PAVIA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32000" y="1700280"/>
            <a:ext cx="648000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i personale e contabilità indust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43280" y="2205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92720" y="220500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87280" y="2781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rutture non idonee sotto il profilo indust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6360" y="3500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ifesa conferma non interesse strate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26920" y="4437000"/>
            <a:ext cx="7417080" cy="936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UNZIONE DECISIONI NON RINV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E637-EF71-44E1-A2FB-EAFC1139E2E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STABILIMENTI CAPUA E PAVIA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54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71640" y="2852640"/>
            <a:ext cx="7129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ismissione e contestuale applicazione procedura di mobilità/reimpiego del Persona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Elaborazione piano di razionalizzazione e ristrutturazione con ricerca integrazioni e sinergie sul territorio utilizzando come asset valorizzazione beni dispon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Uso eventuale straordinario di ammortizzatori so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95640" y="1700280"/>
            <a:ext cx="388764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2349360"/>
            <a:ext cx="360360" cy="574920"/>
          </a:xfrm>
          <a:prstGeom prst="downArrow">
            <a:avLst>
              <a:gd name="adj1" fmla="val 50000"/>
              <a:gd name="adj2" fmla="val 39885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814E-08D5-41FD-8330-5F1F182AB12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UNITA' PRODUTTIVE AID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42920" y="2924280"/>
            <a:ext cx="7129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ifficoltà strutturali: CCNL non idoneo ad area indust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ontributo in conto esercizio in aumento nell’ultimo triennio (da 25 a 35 mln eu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aturità ed obsolescenza dei prodo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isomogeneità degli Stabil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1773360"/>
            <a:ext cx="453708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ALISI DI SITU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24360" y="23493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F1B4-04B8-467D-B50C-A1640716AA3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UNITA' PRODUTTIVE AID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66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42920" y="2924280"/>
            <a:ext cx="71294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on saturazione delle capacità produttive (inferiore al 5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ifficoltà di programmazione (scostamento programmato / realizzato 3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Forte dipendenza dal mercato  AD (“captiv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ercato “esterno” finora assolutamente mar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1773360"/>
            <a:ext cx="453708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ALISI DI SITU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24360" y="23493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D7F4-276F-4976-874C-EBDFEAE5148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UNITA' PRODUTTIVE AID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72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042920" y="2924280"/>
            <a:ext cx="7129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Situazione di stallo: “a metà del guado” rispetto alla Missione iniziale di “traghettatrice” verso situazione di Spa o chiusura U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ecessità assumere iniziative di rilancio per riprendere missione iniziale collegate alla nomina del prossimo Dire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68360" y="1762200"/>
            <a:ext cx="51832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IDE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4D8B-A5B8-483B-8C30-7CE200A8A5C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UNITA' PRODUTTIVE AID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77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42920" y="2421000"/>
            <a:ext cx="7129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ercorso da considerare in fase attuale distinto da quello proposto per Stabilimenti Tab. A 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Aggiornamento e revisione per ciascuna UPI piano industriale preceduto da analisi strate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iano finalizzato allo spirito originario di “traghettam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Definire contratto di lavoro “industri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68360" y="1762200"/>
            <a:ext cx="51832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05B8-E827-4B69-AEF7-B47DEA80529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258920" y="907920"/>
            <a:ext cx="6481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UNITA' PRODUTTIVE AID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1258920" y="1700280"/>
            <a:ext cx="66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71640" y="2492280"/>
            <a:ext cx="71294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on escludere “cessioni” UPI anche non trasformate in SpA allo scopo di avvantaggiare quelle “autosuffici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onsiderare interesse FA EI per lavorazioni su munizionamento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ossibilità che il Comitato Interforze proposto per EPE Stabilimenti Tab. A e B svolga l’attività di base relativa allo sviluppo delle proposte form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68360" y="1762200"/>
            <a:ext cx="51832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CB00-4BAD-472E-89C7-C1943C75932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11280" y="1125360"/>
            <a:ext cx="8532720" cy="5351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934320" y="1125360"/>
          <a:ext cx="2209680" cy="34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1125360"/>
                    <a:ext cx="2209680" cy="3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685800" y="1657440"/>
            <a:ext cx="777240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 Narrow"/>
              </a:rPr>
              <a:t>… </a:t>
            </a:r>
            <a:r>
              <a:rPr b="1" lang="en-US" sz="2600" spc="-1" strike="noStrike">
                <a:solidFill>
                  <a:srgbClr val="660066"/>
                </a:solidFill>
                <a:latin typeface="Arial Narrow"/>
              </a:rPr>
              <a:t>risulta indispensabile con coraggio ed onestà intellettuale perseguire per il futuro, con urgenza, le soluzioni, non più rinviabili, di un profondo stato di cri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77E0-7141-46C9-95CF-90A73660FDEB}" type="slidenum">
              <a:t>58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LA RIFORMA ANDREATTA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1628640"/>
            <a:ext cx="64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630864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349360"/>
            <a:ext cx="669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REAZIONE AREA TECNICO-INDUST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riteri economicità ed effic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rganici focalizzati su attività “co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Esternalizzazione attività “non co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odifiche strutturali ed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iduzione degli Stabil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Nascita dell’Agenzia Industrie Difesa (A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1628640"/>
            <a:ext cx="5832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170028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NCIPI INFORM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2349360"/>
            <a:ext cx="6480000" cy="4320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3AEC-A866-4D66-A7BA-094A339036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LA RIFORMA ANDREATTA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1628640"/>
            <a:ext cx="640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TO DI APPLICAZIONE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3716280"/>
            <a:ext cx="669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nanziamenti in diminuzione dal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276640"/>
            <a:ext cx="6337440" cy="1296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35280" y="2349360"/>
            <a:ext cx="57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Organici non soddisf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Piani infrastrutturali non finanzi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4221000"/>
            <a:ext cx="504720" cy="576360"/>
          </a:xfrm>
          <a:prstGeom prst="downArrow">
            <a:avLst>
              <a:gd name="adj1" fmla="val 50000"/>
              <a:gd name="adj2" fmla="val 285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515772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5084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AVE STATO DI CR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87DF-F88E-459B-8897-AA7DE62D20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2133720"/>
            <a:ext cx="6408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SORS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DICATORI ECONOMICO INDUST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FRASTRUT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EGUATEZZA ALL’ EVOLUZIONE DELLO STRUMENTO MILI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PONIBILITA’ FONDI ESERCIZIO E 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A05F-EBED-4781-BA33-7167E14CF3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057400" y="914400"/>
            <a:ext cx="51721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ANALISI DI SITUAZIONE</a:t>
            </a:r>
            <a:endParaRPr b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1628640"/>
            <a:ext cx="64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630864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tabilimenti tabella A 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924280"/>
            <a:ext cx="6697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Carenze generali e gravi nei quadri tec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porzione “non industriale” funzione di     supporto/funzione produ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Esodi consistenti negli ultimi anni senza “rimpiazz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Età media “baricentrata” sui 50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5280" y="1844640"/>
            <a:ext cx="5832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91628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ISORS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53B8-AA4E-46BC-9C64-FD81ED927F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5:20:19Z</dcterms:created>
  <dc:creator>NencioniE</dc:creator>
  <dc:description/>
  <dc:language>en-US</dc:language>
  <cp:lastModifiedBy>mmi</cp:lastModifiedBy>
  <dcterms:modified xsi:type="dcterms:W3CDTF">2007-07-17T07:35:18Z</dcterms:modified>
  <cp:revision>111</cp:revision>
  <dc:subject/>
  <dc:title>Presentazione di PowerPoint</dc:title>
</cp:coreProperties>
</file>